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DF32-FA0A-4D81-92F8-6D7522C22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5F8A-973B-4096-889D-2634489A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2EAC-0956-4040-A0A3-7907695B0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5C4F-4C6C-4C25-985D-0AA633EEC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2C8E-8F6C-41F7-B4E6-5486907E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A66E-5F65-43A2-A459-FED209B9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9084-E292-4E79-814D-9DEF95A2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41F0-B74C-4958-B025-3F044157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A62E-4DB9-45E4-B759-9513A073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68AC-5421-4E19-B556-C344611F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5709-27CF-4EB5-AF49-540F38B4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0191-06DD-498C-BAF9-738BCD00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667C-FAEB-4E55-80A1-B8B28A557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14400" y="2057400"/>
            <a:ext cx="7848720" cy="166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y name is............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 rot="5400000">
            <a:off x="1942920" y="2933280"/>
            <a:ext cx="5715000" cy="1524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4167"/>
                <a:gd name="adj2" fmla="val 6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MEAGAN!!!!!!!!!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2006auskickfooty%20019" descr=""/>
          <p:cNvPicPr/>
          <p:nvPr/>
        </p:nvPicPr>
        <p:blipFill>
          <a:blip r:embed="rId1"/>
          <a:stretch/>
        </p:blipFill>
        <p:spPr>
          <a:xfrm>
            <a:off x="-4648320" y="3200400"/>
            <a:ext cx="15240240" cy="11430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0" y="7467480"/>
            <a:ext cx="37530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MEAGAN!!!!!!!!!!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048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-2133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09480" y="762120"/>
            <a:ext cx="792504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 am...............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47635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-3809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8600" y="304920"/>
            <a:ext cx="8458200" cy="594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igh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06:40:22Z</dcterms:created>
  <dc:creator> john caine</dc:creator>
  <dc:description/>
  <dc:language>en-US</dc:language>
  <cp:lastModifiedBy> john caine</cp:lastModifiedBy>
  <dcterms:modified xsi:type="dcterms:W3CDTF">2007-05-13T07:00:35Z</dcterms:modified>
  <cp:revision>1</cp:revision>
  <dc:subject/>
  <dc:title>PowerPoint Presentation</dc:title>
</cp:coreProperties>
</file>